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media/WHOOSH.WAV" ContentType="audio/x-wav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0683-C936-4DB4-8D23-16E42A89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2D8D-98AA-42ED-85D9-56852FD5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849-7A40-4B43-B15E-49AE6E2E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FD4-BB93-4343-AF8F-14FA5CB4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F5D6-39D7-46B9-B357-47887223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8A8-2925-40FF-BDAA-6C960E2A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9D5-FDC8-4138-924D-58287971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E899-27EC-4350-B1A1-3D58C366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3559-40C8-4470-BD80-5ED1DCA4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3AFA-2D91-42C6-BEDB-3741D03B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7AF6-64E2-4E4C-B649-8A2B5ED3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A4C-DF31-474D-8194-CA6D9303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6895-5713-4CFB-963E-CCC4A9A25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Times New Roman"/>
              </a:rPr>
              <a:t>BACTERIA</a:t>
            </a:r>
            <a:br>
              <a:rPr sz="4000"/>
            </a:b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“there are more prokaryotes living in a handful of fertile soil than the total number of people that have ever live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4445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ication of Bacteri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s of Loco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ding over slimy su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isting through fl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lling with flag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mot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teria Re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ll Di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nary fi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one cell pinches into two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jug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low pili grow from one bacteria to another then plasmids are 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ual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terial Conju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85800" y="2057400"/>
            <a:ext cx="3733920" cy="4000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648320" y="1752480"/>
            <a:ext cx="3962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sential Functions of Bac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anobacteria:  “oxygen revolu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ical recycling: decomposing organic w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remediation:  removing pollutants from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396216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05720" y="6248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Thermoacidop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ook Antiqua"/>
              </a:rPr>
              <a:t>Archa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23619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ook Antiqua"/>
              </a:rPr>
              <a:t>These prokaryotes are classified separately due to unusual lipids in their cell membra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ook Antiqua"/>
              </a:rPr>
              <a:t>Their cell walls do </a:t>
            </a:r>
            <a:r>
              <a:rPr b="1" lang="en-US" sz="2800" spc="-1" strike="noStrike">
                <a:solidFill>
                  <a:srgbClr val="ffff99"/>
                </a:solidFill>
                <a:latin typeface="Book Antiqua"/>
              </a:rPr>
              <a:t>not</a:t>
            </a:r>
            <a:r>
              <a:rPr b="0" lang="en-US" sz="2800" spc="-1" strike="noStrike">
                <a:solidFill>
                  <a:srgbClr val="ffff99"/>
                </a:solidFill>
                <a:latin typeface="Book Antiqua"/>
              </a:rPr>
              <a:t> contain the compound </a:t>
            </a:r>
            <a:r>
              <a:rPr b="1" lang="en-US" sz="2800" spc="-1" strike="noStrike">
                <a:solidFill>
                  <a:srgbClr val="ffff99"/>
                </a:solidFill>
                <a:latin typeface="Book Antiqua"/>
              </a:rPr>
              <a:t>peptidoglycan</a:t>
            </a:r>
            <a:r>
              <a:rPr b="0" lang="en-US" sz="2800" spc="-1" strike="noStrike">
                <a:solidFill>
                  <a:srgbClr val="ffff99"/>
                </a:solidFill>
                <a:latin typeface="Book Antiqua"/>
              </a:rPr>
              <a:t> (protein &amp; carbohydrate compound) found in eubacte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Heterotrophs &amp; Autotrophs - often chemiautotroph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ancestors of eukaryotes and chloroplas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6811" b="5134"/>
          <a:stretch/>
        </p:blipFill>
        <p:spPr>
          <a:xfrm>
            <a:off x="5334120" y="152280"/>
            <a:ext cx="36385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s of Archaea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thano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 methan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ve in sewage and  animal intestines (co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loph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ve in Great Salt Lake and Dead Sea, salt love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salt to make 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rmoacidoph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ve in hot spring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survive in pH of 2 and temp of 23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3594"/>
          <a:stretch/>
        </p:blipFill>
        <p:spPr>
          <a:xfrm>
            <a:off x="4648320" y="0"/>
            <a:ext cx="4495680" cy="3182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main Eubac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uccessful group by  numbers, mass, and habit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cestors of mitochond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10602" t="8855" r="10602" b="8855"/>
          <a:stretch/>
        </p:blipFill>
        <p:spPr>
          <a:xfrm>
            <a:off x="5029200" y="2438280"/>
            <a:ext cx="380988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teria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419720"/>
            <a:ext cx="358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54600" y="4632480"/>
            <a:ext cx="447480" cy="420480"/>
          </a:xfrm>
          <a:custGeom>
            <a:avLst/>
            <a:gdLst/>
            <a:ahLst/>
            <a:rect l="l" t="t" r="r" b="b"/>
            <a:pathLst>
              <a:path w="282" h="265">
                <a:moveTo>
                  <a:pt x="12" y="153"/>
                </a:moveTo>
                <a:cubicBezTo>
                  <a:pt x="31" y="115"/>
                  <a:pt x="36" y="71"/>
                  <a:pt x="59" y="35"/>
                </a:cubicBezTo>
                <a:cubicBezTo>
                  <a:pt x="70" y="18"/>
                  <a:pt x="112" y="6"/>
                  <a:pt x="130" y="0"/>
                </a:cubicBezTo>
                <a:cubicBezTo>
                  <a:pt x="200" y="12"/>
                  <a:pt x="222" y="13"/>
                  <a:pt x="259" y="71"/>
                </a:cubicBezTo>
                <a:cubicBezTo>
                  <a:pt x="255" y="126"/>
                  <a:pt x="282" y="193"/>
                  <a:pt x="247" y="235"/>
                </a:cubicBezTo>
                <a:cubicBezTo>
                  <a:pt x="222" y="265"/>
                  <a:pt x="169" y="229"/>
                  <a:pt x="130" y="223"/>
                </a:cubicBezTo>
                <a:cubicBezTo>
                  <a:pt x="98" y="218"/>
                  <a:pt x="36" y="200"/>
                  <a:pt x="36" y="200"/>
                </a:cubicBezTo>
                <a:cubicBezTo>
                  <a:pt x="24" y="192"/>
                  <a:pt x="0" y="190"/>
                  <a:pt x="0" y="176"/>
                </a:cubicBezTo>
                <a:cubicBezTo>
                  <a:pt x="0" y="162"/>
                  <a:pt x="31" y="166"/>
                  <a:pt x="36" y="153"/>
                </a:cubicBezTo>
                <a:cubicBezTo>
                  <a:pt x="41" y="142"/>
                  <a:pt x="36" y="118"/>
                  <a:pt x="24" y="118"/>
                </a:cubicBezTo>
                <a:cubicBezTo>
                  <a:pt x="12" y="118"/>
                  <a:pt x="16" y="141"/>
                  <a:pt x="12" y="153"/>
                </a:cubicBez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43400" y="3048120"/>
            <a:ext cx="4191120" cy="293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43434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57400" y="1143000"/>
            <a:ext cx="3124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NA &amp; Plasm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toplasm &amp; Ribos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l Membra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ptidoglycan cell 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s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ication of Bac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 shape and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cc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pher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il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od sha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iril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pi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2743200"/>
            <a:ext cx="121896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3962520"/>
            <a:ext cx="266724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4952880"/>
            <a:ext cx="1371600" cy="685800"/>
          </a:xfrm>
          <a:custGeom>
            <a:avLst/>
            <a:gdLst>
              <a:gd name="textAreaLeft" fmla="*/ 107640 w 1371600"/>
              <a:gd name="textAreaRight" fmla="*/ 1479600 w 1371600"/>
              <a:gd name="textAreaTop" fmla="*/ 88920 h 685800"/>
              <a:gd name="textAreaBottom" fmla="*/ 596880 h 685800"/>
            </a:gdLst>
            <a:ahLst/>
            <a:rect l="textAreaLeft" t="textAreaTop" r="textAreaRight" b="textAreaBottom"/>
            <a:pathLst>
              <a:path w="21600" h="21600">
                <a:moveTo>
                  <a:pt x="1700" y="1400"/>
                </a:moveTo>
                <a:cubicBezTo>
                  <a:pt x="4450" y="-3560"/>
                  <a:pt x="8900" y="6360"/>
                  <a:pt x="11650" y="1400"/>
                </a:cubicBezTo>
                <a:cubicBezTo>
                  <a:pt x="14400" y="-3560"/>
                  <a:pt x="18850" y="6360"/>
                  <a:pt x="21600" y="1400"/>
                </a:cubicBezTo>
                <a:lnTo>
                  <a:pt x="19900" y="20200"/>
                </a:lnTo>
                <a:cubicBezTo>
                  <a:pt x="17150" y="25160"/>
                  <a:pt x="12700" y="15240"/>
                  <a:pt x="9950" y="20200"/>
                </a:cubicBezTo>
                <a:cubicBezTo>
                  <a:pt x="7200" y="25160"/>
                  <a:pt x="275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ication of Bac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istic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pl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ai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iplococc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phyl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lusters  (staphylococc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ep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hains    (streptobacill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2743200"/>
            <a:ext cx="6858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2743200"/>
            <a:ext cx="609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3809880"/>
            <a:ext cx="22860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6600" y="4038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411480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6600" y="380988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10280" y="4267080"/>
            <a:ext cx="22860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38862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4267080"/>
            <a:ext cx="22860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43434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91520" y="4038480"/>
            <a:ext cx="30456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5257800"/>
            <a:ext cx="12952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5257800"/>
            <a:ext cx="11430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5257800"/>
            <a:ext cx="10670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5257800"/>
            <a:ext cx="11430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ication of Bac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6553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of obtaining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TROPH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otosynthetic Bacter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use sun’s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ified by pig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anobacteria, green and purple sulfur bac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emoautotrophic Bac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 high energy electrons from inorganic compounds (NH4, CH4, H2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cau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itrific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NH3 to NO3 = form usable by pla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TEROTROPH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st group of decompo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lude nitrogen fixers (N2 to NO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0" r="73729" b="0"/>
          <a:stretch/>
        </p:blipFill>
        <p:spPr>
          <a:xfrm>
            <a:off x="7086600" y="4038480"/>
            <a:ext cx="1523880" cy="2819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32843" t="0" r="35636" b="0"/>
          <a:stretch/>
        </p:blipFill>
        <p:spPr>
          <a:xfrm>
            <a:off x="7010280" y="914400"/>
            <a:ext cx="1828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5T15:57:06Z</dcterms:created>
  <dc:creator>Melanie Williams</dc:creator>
  <dc:description/>
  <dc:language>en-US</dc:language>
  <cp:lastModifiedBy>loyola</cp:lastModifiedBy>
  <cp:lastPrinted>2001-02-13T16:17:36Z</cp:lastPrinted>
  <dcterms:modified xsi:type="dcterms:W3CDTF">2007-05-02T15:25:58Z</dcterms:modified>
  <cp:revision>69</cp:revision>
  <dc:subject/>
  <dc:title>BACTERIA</dc:title>
</cp:coreProperties>
</file>